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B90-B042-408D-936C-BEC66D11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919-667F-4ABE-946D-6A8A90BA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6E7-189B-4C83-AD08-AB1F737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EB8-DB4A-4A42-A9B0-D565B2D9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220-6373-48FA-A513-9F25562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8E5-8FC8-4C84-B38C-F4449165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7D4-5DC1-4664-BAD3-D5E99E0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17B-B325-42E2-A0FA-BBC4CF31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701-9F1E-4FFB-A231-B75B975B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F41-1673-4ED5-8AFF-479602C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F33-7331-40B7-A763-EEFF11C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FBE-2B24-46B7-9C7E-E4F5556E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5ED-D8CA-49E1-81CB-F6FA8A651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133720" y="2336760"/>
            <a:ext cx="6350040" cy="466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0" y="609120"/>
            <a:ext cx="8442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rowdfu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72720" y="1218960"/>
            <a:ext cx="662148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Jasper Zee &amp; Solveig Whitt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WSM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bruary 15, 201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ataly Dawn's First Solo Alb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159120" y="1117440"/>
            <a:ext cx="249876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tube and Myspace performer looking to start her own Solo Alb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 the studio, musicians, and songs, but needed the fu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project on Kickstarter, solicited her Facebook and Myspace follow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sed over 5X her go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54120" y="5486400"/>
            <a:ext cx="933768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ers received album downloads, signed copies, t-shirts, props from her music videos and much more!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76201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293400"/>
            <a:ext cx="9655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levation Dock: The best Dock for Iphon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evation Lab wanted to design an Iphone Dock that was better then the ones out in the mark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better docking, ease of use, and super suavenes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$75,000 Pledge goal, received over 1,464,706!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ers received an Elevation dock in special finish colors, or multiple depending on amou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181480" y="2540160"/>
            <a:ext cx="4751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2120" y="3052440"/>
            <a:ext cx="844236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ckstarter Elevation Dock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Vide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e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219320" y="101520"/>
            <a:ext cx="8346960" cy="6261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081080" y="6400800"/>
            <a:ext cx="8394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kickstarter.com/profile/proposals/ne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kickstarter.com/projects/hop/elevation-dock-the-best-dock-for-iph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"Fast Growing Retail Business"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6837120" cy="519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224320" y="2030400"/>
            <a:ext cx="448956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ing Circle is a UK clearinghouse for semi-anonymous lenders and borrowers (ban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ily for expanding existing small busine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able loan rates/ter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erage return 8.3%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ing Circle does the credit check, rates risk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nder amounts smal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$40 million in transactions to d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Crowdfunding Mistak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king for Too Much… or Too Litt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Bad Promo Video: too long, not clear on the benefits, no humor, no excite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Clear Itemized Budg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usy or Overpriced Per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iling to Promote Your Project to Your Social Media Net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iling to Inspire- No Good Story or Hoo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ing Up Too Ea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ree Types of Crowdfund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nations, Philanthropy and Sponsorship where there is no expected financial retur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ickstarter, IndieGoGo, RocketHub, Faithfunder, CharitySub, ChipIn, Catchafi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ding/Borrow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IVA, RateSetter, Funding Circ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vestment in exchange for equity, profit or revenue shar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ounder, AppBackr, PeerBackers, Quirky, GrowV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251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://www.crowdsourcing.org/editorial/the-crowd-as-investor-a-conversation-with-grow-vc-co-founder-jouko-ahvenainen/10637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://crowdfundinghelp.com/getting-started/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://www.kickstarter.com/projects/hop/elevation-dock-the-best-dock-for-iphone 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s://www.fundingcircle.com/loans/3801/a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lex McCarthy</cp:lastModifiedBy>
  <dcterms:modified xsi:type="dcterms:W3CDTF">2012-02-15T00:28:16Z</dcterms:modified>
  <cp:revision>2</cp:revision>
  <dc:subject/>
  <dc:title>PowerPoint Presentation</dc:title>
</cp:coreProperties>
</file>